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E81-1B25-40B8-9F83-35790C52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25B-BAF7-4CAE-B905-9F2AD023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212-C84B-4814-9CC3-D7A5CC7F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BA5-EAEB-4A99-B133-E5A72F99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20CF4-EB08-4FE0-98FB-B1C2D298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E7350-B711-437C-9266-DA567675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015DD-E652-4B88-BCD8-0A1E0159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CC9B0-DB7F-4DFF-A8FB-B1B5119B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1D172-9B93-42E7-8659-4429DA1B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14104-26E7-4231-AFA0-AC89EC96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6F52F-CAF7-4A86-87DC-D0C303F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A8B-79D0-4BBE-9BB3-E299A4E5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A7E95-5DDE-48E2-9AED-EA05864E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E4EF3-70CB-41A1-8476-7D8FB2C3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1A0C4-73FB-4A56-AF4B-401E1A63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19D5B-C30B-49CA-BF0A-58734FB8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7C190-2C1E-4EC0-AA6D-5EAD93A4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7BB-696B-42DD-B82C-F6A663C1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11B-8692-4F83-8550-8A6749EA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B49-D3D5-4295-A095-6A1D85EC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BA9-1028-4B2C-B5C5-C6D7B22C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F42-D3C9-4471-98E6-19DF59F1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D2E-82B9-475D-AD37-984ED18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90C-560B-4132-8778-D7112211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3F69-FE88-4B8B-B1D8-29D0A139B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3A75-B335-4E4C-8F68-D4C7797D1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5DD8-4AE0-440F-85FC-725A7CB5A4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9400" y="1828800"/>
            <a:ext cx="8212320" cy="22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умори локомоторног систе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9400" y="4266720"/>
            <a:ext cx="7942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Доц.др Жељко Степан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6C8B-904D-4449-9030-EA08C5470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B7F1-A70B-4F95-8EDA-418851530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ondrosarc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892840" cy="5943600"/>
          </a:xfrm>
          <a:prstGeom prst="rect">
            <a:avLst/>
          </a:prstGeom>
          <a:ln w="0">
            <a:noFill/>
          </a:ln>
        </p:spPr>
      </p:pic>
      <p:pic>
        <p:nvPicPr>
          <p:cNvPr id="129" name="4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49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76FE-E0EF-47F9-AD2F-CF2A772E6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ondrosarc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hondrosarkom"/>
          <p:cNvPicPr/>
          <p:nvPr/>
        </p:nvPicPr>
        <p:blipFill>
          <a:blip r:embed="rId1"/>
          <a:stretch/>
        </p:blipFill>
        <p:spPr>
          <a:xfrm>
            <a:off x="0" y="1371600"/>
            <a:ext cx="4978440" cy="5486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neur"/>
          <p:cNvPicPr/>
          <p:nvPr/>
        </p:nvPicPr>
        <p:blipFill>
          <a:blip r:embed="rId2"/>
          <a:stretch/>
        </p:blipFill>
        <p:spPr>
          <a:xfrm>
            <a:off x="5046840" y="1325520"/>
            <a:ext cx="4097160" cy="5532480"/>
          </a:xfrm>
          <a:prstGeom prst="rect">
            <a:avLst/>
          </a:prstGeom>
          <a:ln w="0">
            <a:noFill/>
          </a:ln>
        </p:spPr>
      </p:pic>
      <p:pic>
        <p:nvPicPr>
          <p:cNvPr id="135" name="42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694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2DDA-36E0-4CBD-8B44-9CD6F635A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ondrosarc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658880" y="914400"/>
            <a:ext cx="55548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DD88-37FB-4B2A-B031-0ED930FE2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ondrosarc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389240" y="838080"/>
            <a:ext cx="6298920" cy="6019920"/>
          </a:xfrm>
          <a:prstGeom prst="rect">
            <a:avLst/>
          </a:prstGeom>
          <a:ln w="0">
            <a:noFill/>
          </a:ln>
        </p:spPr>
      </p:pic>
      <p:pic>
        <p:nvPicPr>
          <p:cNvPr id="144" name="4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554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81E0-EB36-4761-ADA5-FC7775159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WING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–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в сар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је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и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јчешћи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игни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мор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стију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д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це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адих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ул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о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1</a:t>
            </a: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%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их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мора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д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циденца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о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3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лион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це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&lt; 21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тко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јавља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д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5.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ине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над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30.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ине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в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48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5014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C778-2507-46E4-B372-9E2CF09A7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62ED-E3B2-40B0-8A44-4C8299746D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ewing-sarcoma-humerus-1"/>
          <p:cNvPicPr/>
          <p:nvPr/>
        </p:nvPicPr>
        <p:blipFill>
          <a:blip r:embed="rId1"/>
          <a:stretch/>
        </p:blipFill>
        <p:spPr>
          <a:xfrm>
            <a:off x="304920" y="1219320"/>
            <a:ext cx="4200480" cy="4876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rcRect l="23037" t="20591" r="22946" b="27761"/>
          <a:stretch/>
        </p:blipFill>
        <p:spPr>
          <a:xfrm>
            <a:off x="4656240" y="1219320"/>
            <a:ext cx="4262400" cy="4876560"/>
          </a:xfrm>
          <a:prstGeom prst="rect">
            <a:avLst/>
          </a:prstGeom>
          <a:ln w="0">
            <a:noFill/>
          </a:ln>
        </p:spPr>
      </p:pic>
      <p:pic>
        <p:nvPicPr>
          <p:cNvPr id="154" name="49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805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78A9-56A1-4692-8583-BDFC73426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WING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–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в сар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ирур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дио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емио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5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585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1A20-735D-414B-A101-953E0F3E2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D7C8-C6A3-4DA4-A515-0919CEEA75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Unicameral bone cyst | Radiology Reference Article | Radiopaedia.org"/>
          <p:cNvPicPr/>
          <p:nvPr/>
        </p:nvPicPr>
        <p:blipFill>
          <a:blip r:embed="rId1"/>
          <a:stretch/>
        </p:blipFill>
        <p:spPr>
          <a:xfrm>
            <a:off x="1049400" y="1371600"/>
            <a:ext cx="3743280" cy="47242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4"/>
          <p:cNvSpPr/>
          <p:nvPr/>
        </p:nvSpPr>
        <p:spPr>
          <a:xfrm>
            <a:off x="138240" y="-144360"/>
            <a:ext cx="27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138240" y="-144360"/>
            <a:ext cx="27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H:\FMN\ubc.jpg"/>
          <p:cNvPicPr/>
          <p:nvPr/>
        </p:nvPicPr>
        <p:blipFill>
          <a:blip r:embed="rId2"/>
          <a:stretch/>
        </p:blipFill>
        <p:spPr>
          <a:xfrm>
            <a:off x="4978440" y="1371600"/>
            <a:ext cx="3726000" cy="4724280"/>
          </a:xfrm>
          <a:prstGeom prst="rect">
            <a:avLst/>
          </a:prstGeom>
          <a:ln w="0">
            <a:noFill/>
          </a:ln>
        </p:spPr>
      </p:pic>
      <p:pic>
        <p:nvPicPr>
          <p:cNvPr id="166" name="6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489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5707-A215-4F5C-A162-CC0B1BAB4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екундарни тумори костију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елетни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је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сту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сталости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танка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ста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статски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мори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јчешћи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мори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штаном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% </a:t>
            </a: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цином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је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стазе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ст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68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53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421A-E083-4525-A35A-90D4678A3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544B-7B73-41A3-8E06-4B19B4D3CA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sclerotic-bone-metastases-from-prostate-cancer"/>
          <p:cNvPicPr/>
          <p:nvPr/>
        </p:nvPicPr>
        <p:blipFill>
          <a:blip r:embed="rId1"/>
          <a:stretch/>
        </p:blipFill>
        <p:spPr>
          <a:xfrm>
            <a:off x="1252440" y="1066680"/>
            <a:ext cx="6615360" cy="5345280"/>
          </a:xfrm>
          <a:prstGeom prst="rect">
            <a:avLst/>
          </a:prstGeom>
          <a:ln w="0">
            <a:noFill/>
          </a:ln>
        </p:spPr>
      </p:pic>
      <p:pic>
        <p:nvPicPr>
          <p:cNvPr id="175" name="6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152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3478-257E-4A66-9D8F-3511AC1C2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1520" y="380880"/>
            <a:ext cx="914400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изуализационе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етод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тивн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диографиј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лтразв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цинтиграфиј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елет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јутеризован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мографиј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 CT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гнетн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онанца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 MRI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итрон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мисион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мографија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 PET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10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23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CB6C-740F-402B-BAB7-F26E226CA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13F9-E89A-4048-82B7-DF6D177C15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:\FMN\meta.jpg"/>
          <p:cNvPicPr/>
          <p:nvPr/>
        </p:nvPicPr>
        <p:blipFill>
          <a:blip r:embed="rId1"/>
          <a:stretch/>
        </p:blipFill>
        <p:spPr>
          <a:xfrm>
            <a:off x="1389240" y="843120"/>
            <a:ext cx="5824440" cy="5559120"/>
          </a:xfrm>
          <a:prstGeom prst="rect">
            <a:avLst/>
          </a:prstGeom>
          <a:ln w="0">
            <a:noFill/>
          </a:ln>
        </p:spPr>
      </p:pic>
      <p:pic>
        <p:nvPicPr>
          <p:cNvPr id="179" name="7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852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1EBA-077E-4FB9-83D3-F4392FB94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екундарни тумори кости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5% </a:t>
            </a:r>
            <a:r>
              <a:rPr b="1" lang="sr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их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стаза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стима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ју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ећи</a:t>
            </a:r>
            <a:r>
              <a:rPr b="1" lang="sr-Latn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цино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ј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ућ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та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брез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титаста жлез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7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070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39FF-3AB4-4B26-9319-6EAA00164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етаста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јчешће</a:t>
            </a: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</a:t>
            </a: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чменим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шљенов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рима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лици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рнуму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бањи 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ксиманом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емуру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мерус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ралне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стазе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ома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тке (</a:t>
            </a:r>
            <a:r>
              <a:rPr b="1" lang="sr-C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цином дојке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sr-Latn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шће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е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пала</a:t>
            </a:r>
            <a:r>
              <a:rPr b="1" lang="sr-Latn-C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74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9929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50FA-A157-463D-9B11-FEA2E92C4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ate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2793-473A-4780-8F86-2025B18A37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:\FMN\meta 2.jpg"/>
          <p:cNvPicPr/>
          <p:nvPr/>
        </p:nvPicPr>
        <p:blipFill>
          <a:blip r:embed="rId1"/>
          <a:stretch/>
        </p:blipFill>
        <p:spPr>
          <a:xfrm>
            <a:off x="439560" y="1219320"/>
            <a:ext cx="5222880" cy="5029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H:\FMN\pet scan.jpg"/>
          <p:cNvPicPr/>
          <p:nvPr/>
        </p:nvPicPr>
        <p:blipFill>
          <a:blip r:embed="rId2"/>
          <a:stretch/>
        </p:blipFill>
        <p:spPr>
          <a:xfrm>
            <a:off x="5722920" y="1295280"/>
            <a:ext cx="3186000" cy="5181840"/>
          </a:xfrm>
          <a:prstGeom prst="rect">
            <a:avLst/>
          </a:prstGeom>
          <a:ln w="0">
            <a:noFill/>
          </a:ln>
        </p:spPr>
      </p:pic>
      <p:pic>
        <p:nvPicPr>
          <p:cNvPr id="194" name="79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3109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5852-FCE4-42BF-A818-DD5F9528F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атолошких</a:t>
            </a:r>
            <a:r>
              <a:rPr b="1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рел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мерена</a:t>
            </a:r>
            <a:r>
              <a:rPr b="1" lang="sr-Latn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напређење</a:t>
            </a:r>
            <a:r>
              <a:rPr b="1" lang="sr-Latn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валитета</a:t>
            </a:r>
            <a:r>
              <a:rPr b="1" lang="sr-Latn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в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ањење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збијање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ојећих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л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ржавање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ољшање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бинациј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рапијских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тм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ход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чењ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иси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: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дијума</a:t>
            </a:r>
            <a:r>
              <a:rPr b="1" lang="sr-Latn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истолошког</a:t>
            </a:r>
            <a:r>
              <a:rPr b="1" lang="sr-Latn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са</a:t>
            </a:r>
            <a:r>
              <a:rPr b="1" lang="sr-Latn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нозе</a:t>
            </a:r>
            <a:r>
              <a:rPr b="1" lang="sr-Latn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е</a:t>
            </a:r>
            <a:r>
              <a:rPr b="1" lang="sr-Latn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ишћених</a:t>
            </a:r>
            <a:r>
              <a:rPr b="1" lang="sr-Latn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рапијских</a:t>
            </a:r>
            <a:r>
              <a:rPr b="1" lang="sr-Latn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цедура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8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812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5EC-BFC3-4A2A-8327-3475003E8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емотерапиј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хтева</a:t>
            </a: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ње</a:t>
            </a: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истолошког</a:t>
            </a: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а</a:t>
            </a: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суство</a:t>
            </a: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зика</a:t>
            </a: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јаву</a:t>
            </a: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толошких</a:t>
            </a: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ктура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апијски</a:t>
            </a:r>
            <a:r>
              <a:rPr b="1" lang="sr-Latn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токоли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цин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дијума</a:t>
            </a:r>
            <a:r>
              <a:rPr b="1" lang="sr-Latn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83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2213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D9A1-A5A7-4D4E-8FBD-D625E01F1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адиотерапија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ијативни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тман: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љу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ањењ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тпуног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бађањ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калне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оле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сти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кон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ируршког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тмана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ценити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зик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танак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ктуре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цином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јке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тате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дионукли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84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9896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2CD5-50FC-481B-8058-ABA235A94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Хирург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14" name="8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7337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9EC4-9C86-4EAC-A0B3-5DDDED63E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ГРА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98360" y="1911240"/>
            <a:ext cx="3971880" cy="4711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586400" y="1911240"/>
            <a:ext cx="434016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87EA-2F57-4BC2-AE89-274F23F81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АГНЕТНА РЕЗОНАНЦА-Лип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43120" y="1184400"/>
            <a:ext cx="6927840" cy="54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D6D-55E8-4B77-A514-DFE61D183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Биопсиј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387520"/>
            <a:ext cx="91440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опсија</a:t>
            </a:r>
            <a:r>
              <a:rPr b="1" lang="sr-Latn-C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л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цизиона</a:t>
            </a:r>
            <a:r>
              <a:rPr b="1" lang="sr-Latn-C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опсиј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ксцизиона</a:t>
            </a:r>
            <a:r>
              <a:rPr b="1" lang="sr-Latn-C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опсиј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13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110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4B46-A041-4783-BF06-75E91B2B7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C303-01F4-4DE4-9B0D-C4B5C8FEA5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:\FMN\ostesarcoma-bone-tumours.jpg"/>
          <p:cNvPicPr/>
          <p:nvPr/>
        </p:nvPicPr>
        <p:blipFill>
          <a:blip r:embed="rId1"/>
          <a:stretch/>
        </p:blipFill>
        <p:spPr>
          <a:xfrm>
            <a:off x="507960" y="762120"/>
            <a:ext cx="5389560" cy="5181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Intramedullary Osteosarcoma - Pathology - Orthobullets"/>
          <p:cNvPicPr/>
          <p:nvPr/>
        </p:nvPicPr>
        <p:blipFill>
          <a:blip r:embed="rId2"/>
          <a:stretch/>
        </p:blipFill>
        <p:spPr>
          <a:xfrm>
            <a:off x="6006960" y="758880"/>
            <a:ext cx="2764080" cy="5184720"/>
          </a:xfrm>
          <a:prstGeom prst="rect">
            <a:avLst/>
          </a:prstGeom>
          <a:ln w="0">
            <a:noFill/>
          </a:ln>
        </p:spPr>
      </p:pic>
      <p:pic>
        <p:nvPicPr>
          <p:cNvPr id="110" name="24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363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F452-3454-4BA9-B091-56C924FBA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Paraosealni OS"/>
          <p:cNvPicPr/>
          <p:nvPr/>
        </p:nvPicPr>
        <p:blipFill>
          <a:blip r:embed="rId1"/>
          <a:stretch/>
        </p:blipFill>
        <p:spPr>
          <a:xfrm>
            <a:off x="914400" y="1066680"/>
            <a:ext cx="4044960" cy="4876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osteogenic-sarcoma-2"/>
          <p:cNvPicPr/>
          <p:nvPr/>
        </p:nvPicPr>
        <p:blipFill>
          <a:blip r:embed="rId2"/>
          <a:stretch/>
        </p:blipFill>
        <p:spPr>
          <a:xfrm>
            <a:off x="6062760" y="1066680"/>
            <a:ext cx="2616120" cy="5024520"/>
          </a:xfrm>
          <a:prstGeom prst="rect">
            <a:avLst/>
          </a:prstGeom>
          <a:ln w="0">
            <a:noFill/>
          </a:ln>
        </p:spPr>
      </p:pic>
      <p:pic>
        <p:nvPicPr>
          <p:cNvPr id="115" name="27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917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541B-85DA-4004-BF54-DB23A5130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EBCC-88FA-48CD-BCE8-FFB7C8F826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:\FMN\os 1.jpg"/>
          <p:cNvPicPr/>
          <p:nvPr/>
        </p:nvPicPr>
        <p:blipFill>
          <a:blip r:embed="rId1"/>
          <a:stretch/>
        </p:blipFill>
        <p:spPr>
          <a:xfrm>
            <a:off x="1252440" y="743040"/>
            <a:ext cx="6502320" cy="5810040"/>
          </a:xfrm>
          <a:prstGeom prst="rect">
            <a:avLst/>
          </a:prstGeom>
          <a:ln w="0">
            <a:noFill/>
          </a:ln>
        </p:spPr>
      </p:pic>
      <p:pic>
        <p:nvPicPr>
          <p:cNvPr id="119" name="2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96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2019-5597-4AD4-BD1C-269AF57D5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ретм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36160" y="21333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бинација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ивалентне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еми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рапије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роке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хируршке ресекције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ли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мпутације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35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71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Orto</dc:creator>
  <dc:description/>
  <dc:language>en-US</dc:language>
  <cp:lastModifiedBy>Asrock</cp:lastModifiedBy>
  <dcterms:modified xsi:type="dcterms:W3CDTF">2021-02-11T07:28:20Z</dcterms:modified>
  <cp:revision>6</cp:revision>
  <dc:subject/>
  <dc:title>Тумори локомоторног система</dc:title>
</cp:coreProperties>
</file>